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CF23-C801-4E39-B35C-D8A86CC8D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arkers - cell identity (useful in immune response as well as cell-to-cell communication), blood typ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 sites - receptors for insulin allow cell to become more permeable to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arn.genetics.utah.edu/content/disorders/whataregd/cf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also called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topicpage/endoplasmic-reticulum-golgi-apparatus-and-lysosomes-140533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Page 86, Question 1:  Our current view of membrane structure is based on the fluid mosaic model.  What does the word “fluid” refer to in the expression “fluid mosaic model”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en.labs.wikimedia.org/wiki/Anatomy_and_Physiology_of_Animals/The_Cel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teins are peripheral (bound loosely to surface of cell membr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teins are integral (penetrate cell membrane, usually across the whole membr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icro.magnet.fsu.edu/cells/plasmamembrane/plasmamembran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elm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tom/courses/bil255/bil255goods/12_membra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arkers - cell identity (useful in immune response as well as cell-to-cell communication), blood typ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 sites - receptors for insulin allow cell to become more permeable to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AE8-5B57-473F-948E-789EE0D3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C8B-434D-4EFB-B23E-354AEF04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059-DC64-4C72-8E61-72DEE303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383-8156-4123-ABCF-6327D377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4DC-1825-410A-871A-29D50477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B4D-E7F9-41B8-A784-E9E7AA6C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F7D-A78E-42FC-B85A-59170B6D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7AF-D195-4D98-8196-F3185F32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684-EAD5-4C77-B53B-D902E3D4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900-94CF-4C9F-9A5E-9F2FA174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84F-484B-49D3-AB3C-8D2EC0CA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8BF-AA2A-4800-96D4-DCAA3A17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73C0-5BCF-458B-8CD5-A5877A0F4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KN5sq5dtW4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Membra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&amp; Functions     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main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at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ing signals, e.g.,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ment and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LKN5sq5dtW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ve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mutation causes abnormal CFTR protein (a membrane transport prote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343400" y="2217600"/>
            <a:ext cx="44956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s all liv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s cell contents from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transport of substances in and out of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specialization &amp; separation of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nuclear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91120" y="2217600"/>
            <a:ext cx="449568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Membra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10 nm thick (textbook page is 100000 nm thi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lipid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molecules embedded in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mosa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3092400"/>
            <a:ext cx="3809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Membra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2640" y="1981080"/>
            <a:ext cx="757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341360"/>
            <a:ext cx="77724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phobic tails, and hydrophilic h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ity depends on typ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o stabiliz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272412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ls in Bi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63720" y="1981080"/>
            <a:ext cx="541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proteins provide cells with uniqu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membran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pheral membran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7:08:18Z</dcterms:created>
  <dc:creator>rubina khan</dc:creator>
  <dc:description/>
  <dc:language>en-US</dc:language>
  <cp:lastModifiedBy>rubina khan</cp:lastModifiedBy>
  <dcterms:modified xsi:type="dcterms:W3CDTF">2013-09-24T17:58:58Z</dcterms:modified>
  <cp:revision>136</cp:revision>
  <dc:subject/>
  <dc:title>PowerPoint Presentation</dc:title>
</cp:coreProperties>
</file>